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11.wmf" ContentType="image/x-wmf"/>
  <Override PartName="/ppt/media/image17.jpeg" ContentType="image/jpeg"/>
  <Override PartName="/ppt/media/image19.jpeg" ContentType="image/jpeg"/>
  <Override PartName="/ppt/media/image4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6.jpeg" ContentType="image/jpeg"/>
  <Override PartName="/ppt/media/image12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53D-C1E1-45B2-A63D-874F37BF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642-3BA4-4CE1-A15C-0A29B89D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B06-663C-4FA4-8331-3475C4C6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C80-6129-4DBF-8691-48A274A4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EDBB-3A81-4E8D-AC5C-054E66BD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53AC-70B6-4738-B7B1-940D9DB2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C035-4F87-4F59-B5B7-FE88097F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E56D-3167-4A16-BC5F-E2F430D1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D999-45F3-4B1F-A949-6CD9B2F5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FADF-5706-4BCD-BC70-3A31C6A7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8EF4-A2A7-4C0A-A5BF-7B86ADF2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D55-D9A1-4E35-B0D3-43172F2F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17AB-3BA7-43EC-B0C1-591CD0F5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78F7-57E2-4B5C-BCCC-DDF66A51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3BB3-6AE3-45BE-A358-418ADF2B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0AC9-FB85-4C16-883F-4C0EFA1C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5A15-DA3C-4452-BB84-643715E6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75B9-85FC-483B-AE16-87D174A0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899-9897-4E38-87D9-653A1737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D46-D2CA-438F-986A-4392DC71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AAD-FFCB-49C8-8F5D-D2D279AD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44A-DB1E-4481-B7B7-22323C8A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5C9-33AC-4C92-AEA3-DE7317EB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FFF-0647-4E34-B799-74E4D958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1522-BBD1-4BC8-A396-F7F1A2612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02D2-F865-4E34-BDC4-CC7F1AC517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file:///tmp/home/.config/libreoffice/4/user/gallery/MSSN00542A0000%5B1%5D.wav" TargetMode="External"/><Relationship Id="rId3" Type="http://schemas.microsoft.com/office/2007/relationships/media" Target="file:///tmp/home/.config/libreoffice/4/user/gallery/MSSN00542A0000%5B1%5D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MSj03882140000%5B1%5D.wav" TargetMode="External"/><Relationship Id="rId3" Type="http://schemas.microsoft.com/office/2007/relationships/media" Target="file:///tmp/home/.config/libreoffice/4/user/gallery/MSj03882140000%5B1%5D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file:///tmp/home/.config/libreoffice/4/user/gallery/MSj03883970000%5B1%5D.wav" TargetMode="External"/><Relationship Id="rId3" Type="http://schemas.microsoft.com/office/2007/relationships/media" Target="file:///tmp/home/.config/libreoffice/4/user/gallery/MSj03883970000%5B1%5D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MSj00748880000%5B1%5D.wav" TargetMode="External"/><Relationship Id="rId3" Type="http://schemas.microsoft.com/office/2007/relationships/media" Target="file:///tmp/home/.config/libreoffice/4/user/gallery/MSj00748880000%5B1%5D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A Turkey for Thanksgiving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3933720" cy="3425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participat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join in doing something with oth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6715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decorat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make something as pretty as you ca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3962160" cy="4496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05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2772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9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banquet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very special dinn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4672080" cy="3187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059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68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68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68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68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1356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3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flar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lame and light briefly and unsteadi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2948040" cy="4419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5422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7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glimmer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unsteady ligh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2268720" cy="344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089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1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whispery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ound like a whisper with a soft, rustling sou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0" y="2792520"/>
            <a:ext cx="4495680" cy="30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Vocabulary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nksgiv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oov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iverban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umber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Thanksgiving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holiday in Nov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77120" y="2666880"/>
            <a:ext cx="1216080" cy="1816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914400" y="2971800"/>
            <a:ext cx="1825560" cy="1320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76720" y="3809880"/>
            <a:ext cx="2820960" cy="2156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474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hoove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rd part of the feet of some anim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3886200" cy="2581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843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4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riverbank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d on the side of a river or stre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181480" cy="347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3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lumbered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move along heavily and noisi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62320" y="2762280"/>
            <a:ext cx="4800600" cy="3198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Amazing Word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in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olida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articipa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ecora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anqu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la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glim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isper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din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at a me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240360" cy="4800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359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holiday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ay when people celebrate something speci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1863720" cy="1197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705720" y="289548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18129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01:37:30Z</dcterms:created>
  <dc:creator> </dc:creator>
  <dc:description/>
  <dc:language>en-US</dc:language>
  <cp:lastModifiedBy> </cp:lastModifiedBy>
  <dcterms:modified xsi:type="dcterms:W3CDTF">2007-10-29T02:00:40Z</dcterms:modified>
  <cp:revision>2</cp:revision>
  <dc:subject/>
  <dc:title>  A Turkey for Thanksgiving</dc:title>
</cp:coreProperties>
</file>